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190FB-315C-43AF-8ACC-AE354A7FB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B3C00-BD74-4428-84BF-D81B2D2C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427E0-FCF5-40F5-8600-010948E9B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C8370-88C2-432F-8C98-3DBBA4EFE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8CE5-9AB9-466E-8E21-FF9640009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61E6-A8A9-428F-A51A-EFE92E90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1017-D680-4DC4-9520-427A704B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DE64-E9BE-4D4F-AFAC-7CCC4AE6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0991-562C-43BD-BF57-0AF48FC8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CA21-623D-4A8F-9460-2426A05B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0366-EDEC-4351-A176-51816A9A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042D0-BACC-41D9-B802-47D658C7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117C-9071-4C1E-8870-860E1BF1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B8A8-F4BF-4E74-A92F-19DF6AF7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4583-1C82-4994-B429-43759113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40CD-99C7-4C3E-8AF9-1232667CC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75D1-34AC-4287-92EF-FD77A5C13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5C4CC-6572-469B-B486-B534647D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7A078-EEC8-431F-B9C9-F48A2044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1F59D-54D9-411F-A1CE-3DDED487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A1902-1CA1-4723-9F0C-E73BB517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C72B9-F1D8-49E7-B080-C3F3E203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BE119-7EDC-4F49-A040-6CD96EDE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4AEE3-9C72-4A68-8904-E1FF4AE2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A009-3E91-4B24-9FA5-35319B0D8F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13DB-E190-4A8D-935D-A8DC49BEB1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eaking a Double Column Transposition Cipher Help Pres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yptanalysis of a D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3920" y="1936800"/>
            <a:ext cx="830124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weakness of the double column transposition cipher lies in the use of the same pair of keys on several plaintext messages all of the same s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if the following 4 messages between Bob and Alice were intercept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16480" y="3309840"/>
            <a:ext cx="75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tmai atecb bsbnq xivjb eecqu heikn oxlct sedwn oowq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xda aqmue caeon io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16480" y="4100400"/>
            <a:ext cx="75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nbt tjliu eeyhq xotbi dttqy dwbml bxooa oweal hoaq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xbh tqaut iekau woc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16480" y="4919760"/>
            <a:ext cx="75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nat rtwle bocoq xhofb aurqe oxino oxlir defar uhoq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xbn nqttn cgwoo rt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6480" y="5700600"/>
            <a:ext cx="758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wsbe lymtt ernrq xtnei olfqt lebne uxorb okorl ocmq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exru oqwhe oogao aac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2FA5D-F22E-4939-86E6-637212C328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all 4 messages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 dep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 that is one on top of the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 it as a large anagramming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6120" y="4038480"/>
            <a:ext cx="8288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tmai atecb bsbnq xivjb eecqu heikn oxlct sedwn oowqq texda aqmue caeon io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anbt tjliu eeyhq xotbi dttqy dwbml bxooa oweal hoaqp nexbh tqaut iekau woc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nat rtwle bocoq xhofb aurqe oxino oxlir defar uhoqe mexbn nqttn cgwoo rt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wsbe lymtt ernrq xtnei olfqt lebne uxorb okorl ocmqf iexru oqwhe oogao aac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86880" y="5576760"/>
            <a:ext cx="52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lumns of “x” should all go to th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440080" y="3773520"/>
            <a:ext cx="6057720" cy="295200"/>
            <a:chOff x="2440080" y="3773520"/>
            <a:chExt cx="6057720" cy="295200"/>
          </a:xfrm>
        </p:grpSpPr>
        <p:sp>
          <p:nvSpPr>
            <p:cNvPr id="124" name=""/>
            <p:cNvSpPr/>
            <p:nvPr/>
          </p:nvSpPr>
          <p:spPr>
            <a:xfrm>
              <a:off x="2440080" y="3773520"/>
              <a:ext cx="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58960" y="3773520"/>
              <a:ext cx="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78200" y="3773520"/>
              <a:ext cx="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497800" y="3773520"/>
              <a:ext cx="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7B8F3-94FD-4086-9895-63A7B3A1BA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72500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 provides a special anagramming tool for Double Column Transposi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809720" y="2728800"/>
            <a:ext cx="5381640" cy="382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C96B4-E389-435C-9106-57A152529E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11T02:09:37Z</dcterms:modified>
  <cp:revision>70</cp:revision>
  <dc:subject/>
  <dc:title>CAP Cryptographic Analysis Program</dc:title>
</cp:coreProperties>
</file>